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A7FF-4299-44E1-A19B-E752E59B2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0BA0-435F-4B5C-B64A-0399CF8D5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10D-D780-4D0E-8C82-F1717AB4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0EC-1396-433A-A557-04B52946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D9A-73EA-4FCC-A323-EC84C24A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2B3-4EE7-4CFE-976B-3F2AC9F7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E7E-4872-4128-B3F5-B4F92678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CFD-A718-4704-B6A0-F964976C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B20-819A-4BF5-A07D-24D29FA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B6F-84F4-423D-936A-8683A89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27D-B88B-4349-8A96-802E5BEE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63A-81A1-49C0-94C4-821A4196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9F6-F61F-40B1-ADA0-43F09263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79E-314B-4856-8748-14013F8C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E402-8471-486A-99F2-49528737D9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Project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7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2"/>
          <p:cNvSpPr/>
          <p:nvPr/>
        </p:nvSpPr>
        <p:spPr>
          <a:xfrm>
            <a:off x="6781680" y="3048120"/>
            <a:ext cx="2133720" cy="21333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 x 25 = Yr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25 x 15 = Yr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375 x 5 = Yr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6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Global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and Output/impact levels -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(management indica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and approval process by the USAID mission in Qr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to si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nual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standardized forms for better reporting and monit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8600" y="1752480"/>
          <a:ext cx="8686800" cy="484668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1447560"/>
                <a:gridCol w="144792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ice hectares under improved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individuals who have received USG support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1576440"/>
          <a:ext cx="8686800" cy="502920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ood security private enterprises (for profit), producers organizations, water users associations, women's groups, trade and business associations, and community-based organizations (CBOs) receiving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beneficiaries with home gardens or alternate crops as a proxy for access to nutritious foods and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Project Custom (Management)indicator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280" y="1576440"/>
          <a:ext cx="8686800" cy="419112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other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grand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pillover households using improved technologies from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8T16:22:07Z</dcterms:modified>
  <cp:revision>26</cp:revision>
  <dc:subject/>
  <dc:title>PowerPoint Presentation</dc:title>
</cp:coreProperties>
</file>